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2288" cy="10061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3731-B604-4530-8A37-DC998C16A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F134-7EE8-44AE-9F82-1B13DADBD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623A-3546-41A0-B0D2-F08414E5B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08B7-DDC1-4AE1-96C1-AC1FCCBB4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5A37-5467-46D3-9ACB-C5A237E8B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0A5F-1A0C-4F11-B56D-720BDF5CE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B385-54F8-4BBC-A4EA-43375F143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93F9-3EE6-4C03-BDB7-D67C0D2EC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91CD-F61E-4364-AD08-A2E3F1EC6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3B16-7BF5-426E-9308-5AC59F06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D6AA-600B-4CF8-9F9E-47E8DC6B5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FC40-469C-4064-8E6D-40B5F1FB3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A83861A-D24D-4CF2-BBA3-4A0EB5AC64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95280" y="622440"/>
            <a:ext cx="4343400" cy="43369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4654440"/>
            <a:ext cx="434340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Black"/>
              </a:rPr>
              <a:t>03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95280" y="2344680"/>
            <a:ext cx="4343400" cy="188748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PAVILON „D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v areálu spol. Veletrhy Brno, a. s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PODROBNÝ PRŮZKUM STÁVAJÍCÍ STŘECHY</a:t>
            </a:r>
            <a:r>
              <a:rPr b="1" lang="en-US" sz="1000" spc="-1" strike="noStrike">
                <a:solidFill>
                  <a:srgbClr val="ffffff"/>
                </a:solidFill>
                <a:latin typeface="Times New Roman CE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BRNO, 03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474920" y="903240"/>
            <a:ext cx="1809720" cy="9050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286440" y="902520"/>
            <a:ext cx="2169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 CE"/>
              </a:rPr>
              <a:t>KŘENOVÁ 42, 602 00 BR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Kancelář: Bezručova 17a, 602 00 Br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T/F/Z - +420 543 215 23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bestex@bestex.c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04T12:09:04Z</dcterms:created>
  <dc:creator>Libuna</dc:creator>
  <dc:description/>
  <dc:language>en-US</dc:language>
  <cp:lastModifiedBy>Libor Švaříček</cp:lastModifiedBy>
  <cp:lastPrinted>2000-06-07T12:15:56Z</cp:lastPrinted>
  <dcterms:modified xsi:type="dcterms:W3CDTF">2011-04-19T07:58:01Z</dcterms:modified>
  <cp:revision>141</cp:revision>
  <dc:subject/>
  <dc:title>bez titulu</dc:title>
</cp:coreProperties>
</file>